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945-C639-49EE-A945-AE240CB4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185-2113-4F5C-A090-FE958B48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24D-2128-48A2-9589-A2D2D5E9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F1E-CEBA-49CC-BDC5-DC4D3550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F6A-671B-48AE-B47A-79046D0F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E34-C04F-4B7B-8D7A-97BC5808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550-51BA-4FE9-8E0F-FA6D851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4EE-5B7A-43A7-854D-A37220C4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0F6-688F-403D-BAA5-995984A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FDB-3DF6-4CBF-AF22-04E72129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9C4-F84D-4BE5-8A70-FE8C2E25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385-5B9A-42EB-8B71-39B85F4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695-E3B2-445A-BF4E-5BDF8BB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22C-D5A0-4988-AB7F-A2F430B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759B-638F-4370-863B-E5B07B23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ren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7:29Z</dcterms:modified>
  <cp:revision>106</cp:revision>
  <dc:subject/>
  <dc:title>Profile</dc:title>
</cp:coreProperties>
</file>